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6CB89B-EC73-4FFA-8BF5-609CC2075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214-8D4E-4E6D-A3DB-7DF8C752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113-0F68-40FE-A0C4-A05626D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22E-AE3F-457C-A404-DD6F38BB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C0F-BCF5-4946-A695-12B90445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C149-4146-432C-9BFA-DAF0EEE8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C87A-7A3E-4282-9971-9CC6A816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C9CD-EEED-4AC4-BA2A-CAE2E09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06A2-C514-4254-B983-027FBD38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5AE9-AAF1-4CA0-9C6F-958CDD9C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A94-1D17-4485-A827-5970DA2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0AA5-1CF6-4B71-B908-4013BDF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D5E-8D21-4BF5-8D15-E969A25A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1876-207F-42DD-8D82-D2E7DAE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7AB0-04DB-4253-B6B2-9E1050A6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951B-FA28-4C28-A3E1-E19E25F4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5DE-0B11-4194-95F7-37E2DDBA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165F-49D8-42FB-8FB2-D7C79023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85A-6775-42D6-90EC-93CE6BC2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7A6-7601-4639-BAB6-2746E861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76A-E9C3-409C-9841-BC1626B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CC7-0C27-4E06-9156-88B2FB64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390-496D-4756-8A3D-F1AF5B03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7C4-7EC2-4C59-8929-E643846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66F-152A-47CA-A7CE-5484DEC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2163-A071-4147-B516-96F67344FD8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09DB-765A-42F0-8350-9B5262A49E3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C6B3-6ED7-4EE2-8C89-36BB4B2930B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3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Wendy Tel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0440" y="560160"/>
            <a:ext cx="82072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Patterning &amp; Linea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lations Manipulatives &amp; Technology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60" y="293220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b78c"/>
                </a:solidFill>
                <a:latin typeface="Century Gothic"/>
              </a:rPr>
              <a:t>Explore these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4800" y="3470400"/>
            <a:ext cx="81327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A:  TI-Nspir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F:   Square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B:  CBR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G:  Growing Pattern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C:  Gizmo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H:  Real-lif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D:  CLIP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I:  Matching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E:   GSP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J:  Algebra Tile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74600" y="2378160"/>
            <a:ext cx="699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do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nect to Big Ideas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Learning Goals?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0840" y="2787480"/>
            <a:ext cx="3882960" cy="379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5440" y="1374840"/>
            <a:ext cx="847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Mathematical Processes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did you experience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en answering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02480" y="2376720"/>
            <a:ext cx="650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help students 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tumbling bl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87560" y="2038320"/>
            <a:ext cx="69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open or parallel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questions could be asked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o all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ave an entry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33440" y="2711520"/>
            <a:ext cx="83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each activity be used to promote math discou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218960"/>
            <a:ext cx="8480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flect on today’s activities in your Important Boo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ich activities would I like to integrate into my program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I need to learn mo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Wendy Telford User</cp:lastModifiedBy>
  <dcterms:modified xsi:type="dcterms:W3CDTF">2009-08-24T04:29:58Z</dcterms:modified>
  <cp:revision>149</cp:revision>
  <dc:subject/>
  <dc:title>Math GAINS 2008-09</dc:title>
</cp:coreProperties>
</file>